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57B-EB36-48C0-A24E-4A234D48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1C2-7172-4D05-99E8-7087F343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835-4C64-4D2C-8F2D-84371A56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93B-71FA-45BD-AFCD-37A9F638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069B-D1CD-4C10-A5A6-6C7BCF58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2679-928C-4C16-9B9E-09781770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EB6B-ED29-4A1E-BC7C-6DE0DBC2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8DC8-08E6-4D2D-93AD-D149A14F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B146-20BD-471D-A136-73D0991E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F255-ECF8-4516-8BAA-7439324B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8C49-1694-467F-911B-189CD1FF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7C1-1981-4A59-8144-293DC576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0F7F-33FF-4772-9C29-E5CD1DF3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E191-DC7F-43D9-AA69-05771580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D2E6-01D3-4361-B545-FCD80653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A8A4-F9DA-4854-A780-206AD1AA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3A89-119C-4064-923F-08882866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3AD82-6801-4D93-A403-A03E0010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E84A4-1319-4BA4-8F67-1F7879CC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9A45-21BC-411E-8C04-662F1A3D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BED83-CB52-48B0-92CE-2F83F815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DF2BD-EEAB-4211-8F96-6818A376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A14-58FD-4B51-A32E-84D923FF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8FB7-7AA5-48F5-8607-BB109B49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ADA4-901D-480B-98D6-10702FE6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E8B9A-C940-49FA-8C51-4553CE4F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773E-5DA6-4583-BFB3-CFAD2243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5A6A5-393E-4A40-B9E4-8103EF31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225C4-E8CB-4041-AA53-27E87547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5513-83BA-4E68-A47C-FCC7CFC4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13BC4-7507-404C-B146-E22E1493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82B0A-6A19-443A-A79D-933CAFBF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42074-53C7-43D9-B4A8-D613D603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933-F478-4C36-9711-A5EB98D8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931B8-65EF-4A7F-A333-D1C9E273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D3FA4-C813-486B-B488-31F4FA92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D3E37-0638-46F6-BF3A-3D5B5049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C6C1B-45E3-42FC-8381-213E2939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196A4-6B3F-444D-A72C-29885DC2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E4594-ECDB-46FE-8AC2-B4755135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418F7-CA08-4B19-A3B4-977B30F9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F88CF-F147-4053-82B6-17CAD72F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39009-4945-463F-A784-55DF90AB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28834-A618-41EF-927B-CA9D4E1F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928-EA84-45CA-B7E2-06EB5C56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3F8B3-2825-49B2-BEE3-7C4B56A5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753E5-EE7D-4909-86E0-5F9FC3B0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FF068-0C89-49F9-9BEB-33E6ECF6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4E3E9-4F5F-4205-985F-E751026C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1D359-E9F3-4E7E-A25F-2DFD00B9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4DBE-3BC7-4095-8F76-6EC64B9F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0F85C-1B4C-4AC9-90C7-4CEC5650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D4EDB-40EF-45CC-8B8E-A107D34E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F2D5C-AE05-4AB8-9DF5-F6D83C2A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22965-A4C3-4682-B746-F8115478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D1E-61DF-4197-9E16-186C7F7D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1140E-38CE-40E1-92E1-CB456E57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53F1A-0040-429C-AAB5-E3E04EC6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F2420-8B7A-40C6-9529-407E7C87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86773-9F9F-4355-9D2A-78CC77C5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14CEA-930F-4ACC-BE95-480E8CBC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F2103-C6DE-4D09-BB7B-E4E08E77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D8310-84D5-4AF8-81C2-DABEC769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11483-2333-48BC-A961-D4A709EE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61D96-CD64-4AED-8296-66E9CF19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EAA76-8C53-4676-98DB-B8EAE9D4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41C-7E8D-4027-BCA6-3A2FC348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2FC20-0C54-4F2F-AC92-D8670BCF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7DA1B-3672-439D-B864-9F6891E9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A5D10-ABDA-46AD-AE1B-2AEA3A8C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15B7C-9D7F-4248-9462-B603CCD3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002E-320E-4B20-BD3E-80BB0AC4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93D3B-A0BB-4A63-855C-E8BB338C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4FDBD-F1E5-4151-AA70-32F0EF98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B8C73-E693-4F3C-B1A1-B647D619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FE74B-1460-48DF-B44D-FA747006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7ABA2-65BF-4B61-B5E3-D83E200B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7F8-7F78-4C7D-9A61-8E97B32A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16BF1-8E68-4315-BE91-E46A9574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67E08-5F3E-4FE8-993C-CACD5C0A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4EEFD-98C9-42CB-9162-D6BEF04D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0B97F-A08D-4FC9-A714-FACE7DDA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1F09F-45AE-4BE0-9582-4387ECC8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109-3104-4A2B-9354-D910374F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DFED-F615-44D0-828F-1FEEA0A376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1E30-7AE8-49D4-B829-5227D7443268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8854-4011-47E3-B61E-E678E43701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9500-9393-43C5-8FCD-81C071FC15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A020-0EDB-4B47-9FDC-3947754C68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E770-CFE9-4D3F-B9D9-C78F9A26F4C0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D20E-94A4-4239-AC76-95F405F236CB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633240" y="212760"/>
            <a:ext cx="8169480" cy="204948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2" descr="mini1.jpg"/>
          <p:cNvPicPr/>
          <p:nvPr/>
        </p:nvPicPr>
        <p:blipFill>
          <a:blip r:embed="rId2"/>
          <a:stretch/>
        </p:blipFill>
        <p:spPr>
          <a:xfrm>
            <a:off x="2000160" y="2643120"/>
            <a:ext cx="46720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5200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Когда меня услышит мир?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6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Радиоприемник без питания!!! Реально это или нет?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Как распространяются радиоволны?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7254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49e"/>
                </a:solidFill>
                <a:latin typeface="Arial"/>
              </a:rPr>
              <a:t>Расширить знания у учащихся в области радиоэлектроники, ориентировать на профессии, связанные с радиоэлектроникой, и облегчить подготовку к поступлению в технические ВУЗы. Курс «Основы радиоэлектроники» помогает углубить и расширить знания по теме «Электродинамика и радиофизика»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1693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214200" y="1213920"/>
            <a:ext cx="521496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 algn="just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Расширение практической части учебной программы по «Электродинамике» и формирование экспериментальных умений учащихся при обучении физик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Развитие творческой самостоятельности учащихс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Усиление связи обучения с жизнью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Рисунок 3" descr="030_1.jpg"/>
          <p:cNvPicPr/>
          <p:nvPr/>
        </p:nvPicPr>
        <p:blipFill>
          <a:blip r:embed="rId2"/>
          <a:stretch/>
        </p:blipFill>
        <p:spPr>
          <a:xfrm>
            <a:off x="5715000" y="1714680"/>
            <a:ext cx="31100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49e"/>
                </a:solidFill>
                <a:latin typeface="Times New Roman"/>
              </a:rPr>
              <a:t>Что такое Радиоволны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49e"/>
                </a:solidFill>
                <a:latin typeface="Times New Roman"/>
              </a:rPr>
              <a:t>Как устроены различные радиодетали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49e"/>
                </a:solidFill>
                <a:latin typeface="Times New Roman"/>
              </a:rPr>
              <a:t>Как сконструировать простейший радиоприемник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20840" y="55440"/>
            <a:ext cx="8491320" cy="18525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50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Физика радиодеталей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Радиоволны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Конструирование простейших радиоприемников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Перспективы развития радиотехники и радиоэлектроники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6" name="Рисунок 4" descr="attachment126.jpeg"/>
          <p:cNvPicPr/>
          <p:nvPr/>
        </p:nvPicPr>
        <p:blipFill>
          <a:blip r:embed="rId2"/>
          <a:stretch/>
        </p:blipFill>
        <p:spPr>
          <a:xfrm>
            <a:off x="5000760" y="2428920"/>
            <a:ext cx="38005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4086</cp:lastModifiedBy>
  <dcterms:modified xsi:type="dcterms:W3CDTF">2010-06-05T05:08:53Z</dcterms:modified>
  <cp:revision>3</cp:revision>
  <dc:subject/>
  <dc:title>ОСНОВЫ РАДИОЭЛЕКТРОНИКИ </dc:title>
</cp:coreProperties>
</file>